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8FB-24AF-43D9-8CB1-75F454E3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7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last session we saw David running for his life away from 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ath he found himself in danger among the Philistines, and pretended he was insane. The king sent him away from G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esson today David will move into the Cave of Adull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ly tel Zif today. About 3 miles southeast of Heb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precise picture of Ziph, we wanted to give you a picture of the area crossed by David as he continues to run from the threat of Sau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ph: This and the surrounding area (Wilderness of Ziph) was one of the hideouts of David when he was fleeing from Saul (1 Sam. 23:14). The Ziphites twice revealed David's hiding place to Saul. Near here David spared Saul's life when he and Abishai entered Saul's camp at night (1 Sam. 26: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flees to the cave of Adullam, where he is joined by 400 men of various descriptions, v. 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es afterward to Moab; and by the advice of the prophet Gad, to the forest of Hareth, v. 3-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suspecting his servants of infidelity, upbraids them, v. 6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g informs him of David's coming to Nob; of his being entertained by Ahimelech; upon which Saul kills Ahimelech and all the 85 priests, and destroys the city of Nob, v. 9-1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athar, the son of Ahimelech, only escapes; he joins with David, by whom he is assured of protection, v. 20-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lieved to be the cave that David went to in Adul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e view the places that David escapes to, we also need to have in mind the places that Saul operates from in his pursuit of Dav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verse it does not seem possible that ‘Ramah and Gibeah can be the place of Saul’s camp at the same time.  See vers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eems that “Ramah” means “height”. Thus, in this verse Saul is in Gibeah under a tamarisk tree in a height (Ramah), but not the city Ramah that was several miles north of Gibeah.  How could Saul be in both cities under the same tamarisk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possible routes that David could take to Mizpah of Mo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thern route around the Dead Sea does not seem l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ew of the fact that David passes through various places in the Judean wilderness, it seems that we should view the southern route as most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care of his parents, got a safe place for them in Moab, and then came back into Jud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zpah of Moab is not precisely determined. Since it means “watchtower”, there was a most noteworthy watchtower that stood out in the mind of the biblical writer.  It is not known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st of Hereth is thought by some to be about two miles south of Ziph. Some think it is at the village of Kharas near Keil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Khirbet Qila.  8 miles northwest of Hebron. 18 miles southwest of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and his men rescued Keilah from the Philistine attack, but withdrew from there thinking they would hand him over to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saves Keilah, besieged by the Philistines; defeats them, and delivers the city, v. 1-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that David was at Keilah, determines to come and seize him, v. 7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inquires of the Lord concerning the fidelity of the men of Keilah towards him; is informed that if he stays in the city, the men of Keilah will betray him to Saul, v. 9-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and his men escape from the city, and come to the wilderness of Ziph, v. 13-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E26-E36F-42C6-BFE2-0CCA18B2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DB0-44AE-4BB3-824A-666639D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590-127F-407A-A795-17A8D2CE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F15-E6A2-472F-846B-F96A75B0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37595-BD33-4210-BE05-85706115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3846F-92AA-473C-8FC2-FE1D31DE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A080-C0E4-472B-B89E-F661DC7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95982-3D32-44B9-A234-ECD70D1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2390E-92E8-45CB-B17D-9FD164D5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67EDB-E8B7-4856-95ED-45D97E4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BA8D-CD4D-412E-8C1C-5911AD8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6C7-8BD7-458F-98DE-135BA35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C156C-E206-448F-8C2F-FEEEAC7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BE166-9ACF-49AA-87E2-C6908F7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49AF-131B-4BA3-99EC-C4DD491C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2155-9C0D-4E2B-B878-093F4BB8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F865A-AEC0-4AD1-B83B-80F27F3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24C-3F16-43A9-A195-E688083D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497-8043-4FF4-A803-0EA38893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D2F-EB2E-4482-9CE3-BF44B406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172-009B-4EDA-A83C-FFCD87DD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58C-D797-40E5-8D39-D7C5FC78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9E4-CC0A-4AAA-8ED3-719836F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5F5-B59C-44E5-A006-DF1AB1B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43A4-D680-44E9-A724-EB9E6439A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D2F-599C-487A-9160-3B5AF80356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United Kingd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4, Lesson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Sam. 22 – 23:14; Psa.142,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gs. 31-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708120"/>
            <a:ext cx="8458200" cy="549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05520" y="3124080"/>
            <a:ext cx="68580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28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erial View of Judean Wilder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40240" cy="472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4952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ullam from So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67160" y="0"/>
            <a:ext cx="5676840" cy="402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33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ullam area view from 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657600" y="4084560"/>
            <a:ext cx="3962520" cy="275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533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ide View of Cave of Adu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95280" y="14144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utside View of Cave of Adul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8839080" cy="573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228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here Saul Is Located At The Time David Is On The 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00400" y="990720"/>
            <a:ext cx="990720" cy="3124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345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04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rom Gath To Cave of Adullam To Mizp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76920"/>
            <a:ext cx="304920" cy="75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38480" y="4648320"/>
            <a:ext cx="1067040" cy="30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4648320"/>
            <a:ext cx="75960" cy="99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63244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zpah means “watchtower”. Precise Moab location unkn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81480" y="4724280"/>
            <a:ext cx="2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029200"/>
            <a:ext cx="685800" cy="762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5791320"/>
            <a:ext cx="38088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10080" y="1219320"/>
            <a:ext cx="340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vid's Rout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806400"/>
            <a:ext cx="8610480" cy="5591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7238520" y="5638680"/>
            <a:ext cx="838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333760" y="3276360"/>
            <a:ext cx="1904760" cy="2361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Mizpah of Moab to Forest of Hereth to Keilah is  David’s Ro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3049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ilah From The 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733920" y="380880"/>
            <a:ext cx="16002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il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1:25Z</dcterms:created>
  <dc:creator>Terry W. Benton</dc:creator>
  <dc:description/>
  <dc:language>en-US</dc:language>
  <cp:lastModifiedBy>Terry W. Benton</cp:lastModifiedBy>
  <dcterms:modified xsi:type="dcterms:W3CDTF">2005-04-19T00:49:01Z</dcterms:modified>
  <cp:revision>5</cp:revision>
  <dc:subject/>
  <dc:title>The United Kingdom</dc:title>
</cp:coreProperties>
</file>